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apacity development: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search rooted in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munity partner voice</a:t>
            </a:r>
            <a:br>
              <a:rPr sz="3600"/>
            </a:b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ptember 24,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trick M. Green, Ed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rector, Center for Experient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nical Instructor of Experiential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yola University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re organization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pacity built through the work of students in service-learning and community engaged prog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the voice of the community partner organization become structurally embedded into the partnership to identify the organizatio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capacity develop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rvey of community partners (spr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cus groups (Community Partner Gathering, other even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i-structured interviews (pho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ollection and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-based survey sent electronically via email to community partner represent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cus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itation to community partner representatives at events; self-select in to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mi-structured 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ucted for 30 – 60 minutes via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was analyzed through categorization and thematic analys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mes from community partner organizations emer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1280" y="380880"/>
            <a:ext cx="9104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1434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acity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alysis of data demonstrated significant themes of capacity development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sion of volunteers and staff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the number of beneficiaries 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service utilization by beneficiaries (e.g. more beneficiaries stay in a program long enough to experience significant benef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new programs and services or expanded existing program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ined collaborative partnerships with other community organizations (not including Loyo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minished cost of services available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rtunities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nership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ions for implementation of reciprocal relationships that build upon the strengths of higher education and local institutions and that can catalyze long-term impact through collabo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 for more community-based research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cilitate more research connections with facu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pport for longer duration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velop multi-dimensional relationships between CBOs and higher education instit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ontribute more than volunteer services to organizations; they aid in community development through building organizational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are the emerging workforce; training next generation of leadership and conversion to employment is potential out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longitudinal studies on community impact to identify long-term impact and capacity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iticism in literature to the 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heard voices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community partners in service-learning and community engagement (Stoecker &amp; Tryon, 2009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do we address community voice structurally in our partnership and our programs?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pture community voice through our programs and institutional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bed community partner-focused programs throughout the year (e.g. Community Partner Gathering each summer; Community Engagement Foru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ntional communication to document and collect partner voices (survey, focus groups, interview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outlets (blogs, website) to collect stories from community partners on how students are contributing to community 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NEW programs that respond to community voice (community-based research courses, Social Justice Internship Program, CRASH interdisciplinary course, CCCR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 situation in which some men prevent others from engaging in the process of inquiry is one of violence;…to alienate humans from their own decision making is to change them into objects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o Fre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Present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of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of institution an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llection an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of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 of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on partnerships in service-learning and community engagement focused on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iprocity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Jacoby, 1996, 2003; Schiebel, Bowley, &amp; Jones,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ner as co-edu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-based community development approach (ABCD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ecker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earch Methods for Community Chan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013) claims that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development is about building the capacities of the communities to solve their own problem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pose is capacity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ext of Experiential Learning a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yola University Chic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er for Experientia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-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c Inter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graduat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ort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Peru - Alyssa and Waterfall"/>
          <p:cNvPicPr/>
          <p:nvPr/>
        </p:nvPicPr>
        <p:blipFill>
          <a:blip r:embed="rId1"/>
          <a:srcRect l="23782" t="55717" r="23719" b="4914"/>
          <a:stretch/>
        </p:blipFill>
        <p:spPr>
          <a:xfrm>
            <a:off x="5943600" y="1981080"/>
            <a:ext cx="2800440" cy="3048120"/>
          </a:xfrm>
          <a:prstGeom prst="rect">
            <a:avLst/>
          </a:prstGeom>
          <a:ln w="9360">
            <a:solidFill>
              <a:srgbClr val="eeb1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-Learning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780 Loyola students provided over 106,914 hours of service to the Chicago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100 facul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3 courses in 34 different academic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 community partner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lipArt Placeholder 4" descr=""/>
          <p:cNvPicPr/>
          <p:nvPr/>
        </p:nvPicPr>
        <p:blipFill>
          <a:blip r:embed="rId1"/>
          <a:stretch/>
        </p:blipFill>
        <p:spPr>
          <a:xfrm>
            <a:off x="4361040" y="2133720"/>
            <a:ext cx="43257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 Inter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2300 students participated in academic internships and field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demic internships offered in 22 disciplines across 6 sch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studioSW"/>
          <p:cNvPicPr/>
          <p:nvPr/>
        </p:nvPicPr>
        <p:blipFill>
          <a:blip r:embed="rId1"/>
          <a:srcRect l="4002" t="0" r="7877" b="0"/>
          <a:stretch/>
        </p:blipFill>
        <p:spPr>
          <a:xfrm>
            <a:off x="3809880" y="1676520"/>
            <a:ext cx="487692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Employment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 600 students working in over 90 organizations; Over 1,750 students working on camp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ents working in internship-quality experi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tc_forweb  057"/>
          <p:cNvPicPr/>
          <p:nvPr/>
        </p:nvPicPr>
        <p:blipFill>
          <a:blip r:embed="rId1"/>
          <a:srcRect l="0" t="2376" r="0" b="0"/>
          <a:stretch/>
        </p:blipFill>
        <p:spPr>
          <a:xfrm>
            <a:off x="5105520" y="160020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 Research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0 Students engaged in funded research with a faculty men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160 students presented their research at the spring sympo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room shot"/>
          <p:cNvPicPr/>
          <p:nvPr/>
        </p:nvPicPr>
        <p:blipFill>
          <a:blip r:embed="rId1"/>
          <a:stretch/>
        </p:blipFill>
        <p:spPr>
          <a:xfrm>
            <a:off x="3657600" y="167652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ortfolio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152 Students engaged in building an e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 Loyola faculty and staff members used ePortfolio technology in their courses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ntent Placeholder 4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487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4:44:27Z</dcterms:created>
  <dc:creator>Julie Jung</dc:creator>
  <dc:description/>
  <dc:language>en-US</dc:language>
  <cp:lastModifiedBy>Barbara Harrison</cp:lastModifiedBy>
  <cp:lastPrinted>2012-09-20T16:20:08Z</cp:lastPrinted>
  <dcterms:modified xsi:type="dcterms:W3CDTF">2012-10-01T21:02:52Z</dcterms:modified>
  <cp:revision>72</cp:revision>
  <dc:subject/>
  <dc:title>PowerPoint Presentation</dc:title>
</cp:coreProperties>
</file>